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C3A-B491-4A54-857A-33436878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2E9-BCAA-40D1-BF00-E9C0645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AF3-ADA9-45BE-9E7D-72A7E21C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F7C-D67C-4746-9F6A-15B76D23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A72-C648-481D-B9F2-2FBC4B4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744-37A4-4584-B81D-2F67238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BB2-3BA3-4F5F-BE47-65F37F3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902-2019-4330-92F5-590F62F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F0F-D07D-46ED-82EF-6F1BC41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675-7409-467F-835C-95B3386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CE7-EBE6-4FBE-85F7-FCEA6C7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CE7-E5A0-4D49-98C9-C45809A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FEA-8845-4C17-8785-F31876C673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435640" y="1089000"/>
            <a:ext cx="28814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7772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9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2979720" cy="27367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5"/>
          <p:cNvCxnSpPr/>
          <p:nvPr/>
        </p:nvCxnSpPr>
        <p:spPr>
          <a:xfrm>
            <a:off x="5689080" y="2781360"/>
            <a:ext cx="1080" cy="201672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7740360" y="3715920"/>
            <a:ext cx="1080" cy="108180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20880" y="3371760"/>
            <a:ext cx="4224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7496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2835360" cy="260496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5"/>
          <p:cNvCxnSpPr/>
          <p:nvPr/>
        </p:nvCxnSpPr>
        <p:spPr>
          <a:xfrm>
            <a:off x="6075360" y="4140000"/>
            <a:ext cx="2674080" cy="108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6" name="Straight Arrow Connector 8"/>
          <p:cNvCxnSpPr/>
          <p:nvPr/>
        </p:nvCxnSpPr>
        <p:spPr>
          <a:xfrm>
            <a:off x="6227280" y="3284640"/>
            <a:ext cx="1080" cy="169272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7" name="Straight Arrow Connector 13"/>
          <p:cNvCxnSpPr/>
          <p:nvPr/>
        </p:nvCxnSpPr>
        <p:spPr>
          <a:xfrm>
            <a:off x="7524360" y="4140360"/>
            <a:ext cx="1080" cy="846720"/>
          </a:xfrm>
          <a:prstGeom prst="straightConnector1">
            <a:avLst/>
          </a:prstGeom>
          <a:ln w="15840">
            <a:solidFill>
              <a:srgbClr val="2c763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Straight Arrow Connector 15"/>
          <p:cNvCxnSpPr/>
          <p:nvPr/>
        </p:nvCxnSpPr>
        <p:spPr>
          <a:xfrm flipH="1">
            <a:off x="6011280" y="3284280"/>
            <a:ext cx="216360" cy="1080"/>
          </a:xfrm>
          <a:prstGeom prst="straightConnector1">
            <a:avLst/>
          </a:prstGeom>
          <a:ln w="1584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Straight Arrow Connector 18"/>
          <p:cNvCxnSpPr/>
          <p:nvPr/>
        </p:nvCxnSpPr>
        <p:spPr>
          <a:xfrm>
            <a:off x="6516360" y="4140000"/>
            <a:ext cx="1080" cy="1043640"/>
          </a:xfrm>
          <a:prstGeom prst="straightConnector1">
            <a:avLst/>
          </a:prstGeom>
          <a:ln w="15840">
            <a:solidFill>
              <a:srgbClr val="59595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" name="Straight Arrow Connector 20"/>
          <p:cNvCxnSpPr/>
          <p:nvPr/>
        </p:nvCxnSpPr>
        <p:spPr>
          <a:xfrm flipH="1">
            <a:off x="6012000" y="4005000"/>
            <a:ext cx="273708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907920" y="5357880"/>
            <a:ext cx="8053560" cy="7509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871560" y="4846680"/>
            <a:ext cx="805968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884160" y="440064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0640" y="3902040"/>
            <a:ext cx="8058240" cy="461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139760" y="3255840"/>
            <a:ext cx="80535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341280" y="2432160"/>
            <a:ext cx="8193240" cy="804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2432160" y="4968720"/>
            <a:ext cx="5449680" cy="5842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652760" y="4280040"/>
            <a:ext cx="805788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890640" y="3681360"/>
            <a:ext cx="8058240" cy="744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933480" y="3219480"/>
            <a:ext cx="80582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1"/>
          <a:stretch/>
        </p:blipFill>
        <p:spPr>
          <a:xfrm>
            <a:off x="542880" y="2359080"/>
            <a:ext cx="8051760" cy="9810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2"/>
          <a:stretch/>
        </p:blipFill>
        <p:spPr>
          <a:xfrm>
            <a:off x="341280" y="113364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5481720" y="1335240"/>
            <a:ext cx="2835360" cy="260352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6"/>
          <p:cNvCxnSpPr/>
          <p:nvPr/>
        </p:nvCxnSpPr>
        <p:spPr>
          <a:xfrm>
            <a:off x="5651280" y="2636640"/>
            <a:ext cx="2161080" cy="108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89548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878040" y="1847880"/>
            <a:ext cx="8057880" cy="61416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6"/>
          <a:stretch/>
        </p:blipFill>
        <p:spPr>
          <a:xfrm>
            <a:off x="517680" y="3919680"/>
            <a:ext cx="8059680" cy="8348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7"/>
          <a:stretch/>
        </p:blipFill>
        <p:spPr>
          <a:xfrm>
            <a:off x="566640" y="5010120"/>
            <a:ext cx="8053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4:19Z</dcterms:created>
  <dc:creator/>
  <dc:description/>
  <dc:language>en-US</dc:language>
  <cp:lastModifiedBy/>
  <dcterms:modified xsi:type="dcterms:W3CDTF">2011-12-08T12:06:47Z</dcterms:modified>
  <cp:revision>1</cp:revision>
  <dc:subject/>
  <dc:title/>
</cp:coreProperties>
</file>